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427B720-092A-4366-9134-BDC384AB78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IT Kolledzh/TTÜ 2005     T.Tammet     IT sissejuhatus loeng 12      lk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219EB3A4-78D6-42E3-9510-1BF6D0FD385D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88557-BB08-4986-BFFF-47575187029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incredibly complex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blueprints: gen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enes are very small when compared to anima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contain copies of genes in huge amou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 is it possible?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se cas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no recursion involved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or mor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cursive cases.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guments of the recursive call must b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impl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according to some measur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The “simplicity” measure may be arbitrarily complex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recur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me programming tasks are much easier to write using iterat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5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o calls bar which calls foo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2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x-1)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5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se return 1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3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mple exampl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sise.ttu.ee/it/vorgutarkvara/wai2030/eckintrolabs/tmcm-java-labs/labs/xTurtleLab3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 bit more complex examples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math.hws.edu/TMCM/java/xTurtle/index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xample: towers of Hano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al: move all the disks from Stack 0 to Stack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ck 2 can be used as a spare location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ly one disk at a time may be mov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arger disk may never be on the smaller di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86520" cy="38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owers of Hanoi: co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TowersOfHanoi(int disks, int from, int to, int spare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disks == 1)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from, spare,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ove a disk from stack number "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from + " to stack number " + to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wersOfHanoi(disks-1, spare, to, from)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ne vs imperatiivn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ja -meetodeid saab klassifitseerida mitmel moel. Selle loengu kontekstis sobib jaotada programmeerimiskeeled kõigepealt kahte gruppi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d keeled] sobivad samm-sammult, kindlas  järjekorras täidetavate algoritmide esitamiseks. Programmid  kujutavad endast arvutile antavate käskude jada. Tuntumad imperatiivsed keeled on C, Basic, Pascal, Java,  objektorienteeritud keeled ja  assemblerkeel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sete keelte pe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elis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arvuti tegevuse täpse kontrollimise ja suunamise võimaldamine, mis enamasti tagab maksimaalse töökiiruse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inustek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programmeerimise suur töömahukus - lahenduskäigu kõik detailid tuleb süsteemile esitada - ning suured raskused programmideanalüüsimisel, näiteks optimeerimise, verifitseerimise või paralleliseerimise tarvis.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8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peratiivne vs deklaratiiv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9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eklaratiivsed vs imperatiiv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d keele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obivad algoritmi esitamiseks  käskude jadast abstraktsemal viisil. Programmeerija ei pruugi alati kõiki algoritmi detaile kirja panna, vaid võib esitada otsitava lahenduse  kirjelduse , ning juba programmi täitmise käigus otsustab süsteem automaatselt, mis viisil täpselt seda lahendust otsi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teks keelteks võib lugeda loogilise programmeerimise keeled (näiteks Prolog) ja mitmed funktsionaalsed keeled (näiteks Haskell). Teoorias kasutatav  lambda-arvutus  on puhtalt funktsionaalse deklaratiivse keele näid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9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lussid ja mii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võimaldavad enamikku programme kiiremini ja mugavamalt kirjutada, kui imperatiivsed keeled - programmeerija ei pea kõigi detailide eest hoolt kandma. Tunduvalt lihtsam on ka programmide analüüs, näiteks programmi automaatsel kohandamisel paralleelarvutile, kus programmi täitmise juures töötab samaaegselt hulk protsessore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ks miinuseks on programmide väiksem töökiirus - deklaratiivne programm ei pruugi küll alati aeglasem olla, kui imperatiivne, kuid on seda harilikult siiski. Põhjuseks on siin keele automaattranslaatori väiksem intelligentsus kogenud  programmeerijaga võrreldes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9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sed ja loogilise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klaratiivsed keeled jaotatakse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unktsionaal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Haskell), kus lahendus kirjeldatakse funktsioonide kogu abil - ka viimast saab tegelikult käsitleda kui teatud tüüpi loogikasüsteem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ilise programmeerimise keel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(näide: Prolog), kus otsitavat lahendust kirjeldatakse loogika keele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0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teisi funktsioone ja funktsiooni arvutamise resultaadiks võib samuti olla funktsioon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 Funktsionaalne programmeerimine on ajalooliselt esime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klaratiivse programmeerimis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iis, ning enamik kaasaegseid programmeerimiskeeli -- C, Pascal, Ada jne --  on funktsionaalse programmeerimise meetoditest mõjustatu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0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0) = 1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,n) = x*fakt(x-1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1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1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uhtad ja ebapuht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ebapuht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keeles -- Haskell, Hope, Miranda, FP -- ei ole programmeerijal peale funktsioonide defineerimise ja sisseehitatud baasfunktsioonide (aritmeetika, loendid jms) mingeid lisavahendeid -- kõik kõrvalefektid on keelatud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bapuhtad funktsionaalsed keeled - ML, Lisp, Scheme -  kombineerivad puhaste funktsionaalsete keelte mehhanisme imperatiivsete mehhanismid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2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2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3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3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0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d kind - infinite loop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car is a car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10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(int x)  {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fact(x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od kind – loop is (hopefully) terminate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"ancestor" is either a parent or an ancestor of a pare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fact (int x) {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x &lt;= 0) return 1;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return x * fact(x-1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$f(3)$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4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bapuhta keele näide: Schem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good? x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&gt; 10 x) #t #f) 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define (every? fn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pair? lst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f (fn (ca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fn (cdr lst))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f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t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very? good? ‘(10 40 50 2 100)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((eve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4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väga populaarne -- loogilise programmeerimise keel. Prolog-ile lisaks on välja töötatud mitmeid uuemaid loogilise programmeerimise keeli ja süsteeme, ning nende arendamine on ulatuslik ja levinud uurimisteema.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5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5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6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6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7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7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8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8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